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B835-03D7-4429-AC88-C2AD0CA2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DF8-FB63-4E67-86C5-C2214A6F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D11-0969-4D3F-A6D1-535165FF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085-1175-44B7-BA68-328A9AE9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9244-CEAA-4D42-9FEE-DF84FC37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5A0-92B8-4A17-B16F-B563A42F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880C-66E0-4AFF-9D34-1752F834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A77-2A6D-49E1-AF5D-FB86C90F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926-3AFE-4C04-94DB-DA6DF5BB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E18-EFC5-4EFE-8472-153A4A9B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526-D640-4628-922A-5BC052A5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B0D8-F7C4-49DE-BE2E-CFDEF5FF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904E-0E9A-47A9-816E-D1CA34131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873" t="24002" r="21251" b="10000"/>
          <a:stretch/>
        </p:blipFill>
        <p:spPr>
          <a:xfrm>
            <a:off x="152280" y="1066680"/>
            <a:ext cx="876312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86400" y="1981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 flipV="1">
            <a:off x="761760" y="2666880"/>
            <a:ext cx="106668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114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i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876560" y="380988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2743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647960" y="297180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571640" y="228600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35812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4267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800240" y="449568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1055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876560" y="518148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52280"/>
            <a:ext cx="7772400" cy="91692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 need A comparison for each element of an  entered list  which depending on the first two letters' can let me send them to one of the sub list ,example if “P” &amp; “B” than put it in the second sub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09480" y="762120"/>
            <a:ext cx="327672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4:39:18Z</dcterms:created>
  <dc:creator>za04499</dc:creator>
  <dc:description/>
  <dc:language>en-US</dc:language>
  <cp:lastModifiedBy>za04499</cp:lastModifiedBy>
  <dcterms:modified xsi:type="dcterms:W3CDTF">2009-03-06T07:04:02Z</dcterms:modified>
  <cp:revision>3</cp:revision>
  <dc:subject/>
  <dc:title>Slide 1</dc:title>
</cp:coreProperties>
</file>